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552-AD7A-4718-BF26-5A7065B0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67A-1901-43FF-BFFE-E895B3F1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281-BBA1-4D2C-9646-2252DAF0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066-C067-4A29-91CC-3CE7EAC0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989-74D9-46F8-8174-F298DDE1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B87-32F2-4B54-B495-79C9B466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0FF-BFCB-49AC-B544-F35EF423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401-6501-43D6-93EB-8463A22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1C36-A934-4F89-A4C8-9F38E05F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AC7-81D8-4C2F-B84E-AC26EDB7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C76-8B37-48B9-B79D-71B18615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EE6-2FE0-4565-8367-6E109D3A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429CE-C0BD-4F1D-B079-1B5E47E78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8840" y="0"/>
            <a:ext cx="596124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21360000">
            <a:off x="5815080" y="355680"/>
            <a:ext cx="720720" cy="24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580000"/>
            <a:ext cx="1440000" cy="900000"/>
          </a:xfrm>
          <a:prstGeom prst="wedgeRoundRectCallout">
            <a:avLst>
              <a:gd name="adj1" fmla="val 103583"/>
              <a:gd name="adj2" fmla="val 10597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that's 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'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lait(in(X, Q)) /= Q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because the two queues might have different represent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 queues should have the same cont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other word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to_list(lait(in(X, Q)) ==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 to_list(Q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n't we compare those inst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'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ant to see this law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 is_empty(new()) == tru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QuickSpec doesn't know about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tr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's wr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want to see this law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 reverse(to_list(Q)) ==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    to_list(reverse(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at case, we need the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ever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unction on l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id we get nice law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the elements of a queue, not its internal re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9924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ever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at we see the symmetry between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tai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la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lists as a model of que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12120" y="2898000"/>
            <a:ext cx="4021200" cy="812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observe(Q, queue)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queue:to_list(Q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on earth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800360"/>
            <a:ext cx="1008072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bar(X,foo()) == apa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bar(X,monkey(X,P,I)) =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bar(Y,monkey(X,P,foo())) == bar(X,monkey(Y,P,foo(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bar(X,monkey(Y,apa(),foo())) == apa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monkey(X,P,monkey(X,Q,I)) == monkey(X,P,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monkey(Y,P,monkey(X,P,I)) == monkey(X,P,monkey(Y,P,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and why does the highlighted law h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879640"/>
            <a:ext cx="9539280" cy="360360"/>
          </a:xfrm>
          <a:prstGeom prst="rect">
            <a:avLst/>
          </a:prstGeom>
          <a:solidFill>
            <a:srgbClr val="99ccff">
              <a:alpha val="2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...it's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rray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800360"/>
            <a:ext cx="10439280" cy="504000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get(I,new()) == default_elemen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get(I,set(I,X,A)) =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get(J,set(I,X,new())) == get(I,set(J,X,new(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get(I,set(J,default_element(),new())) == new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set(I,X,set(I,Y,A)) == set(I,X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set(J,X,set(I,X,A)) == set(I,X,set(J,X,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2879640"/>
            <a:ext cx="8496360" cy="357120"/>
          </a:xfrm>
          <a:prstGeom prst="rect">
            <a:avLst/>
          </a:prstGeom>
          <a:solidFill>
            <a:srgbClr val="99ccff">
              <a:alpha val="2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on earth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798200"/>
            <a:ext cx="1008072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bar(X,foo()) == apa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bar(X,monkey(X,P,I)) =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bar(Y,monkey(X,P,foo())) == bar(X,monkey(Y,P,foo(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bar(X,monkey(Y,apa(),foo())) == apa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monkey(X,P,monkey(X,Q,I)) == monkey(X,P,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monkey(Y,P,monkey(X,P,I)) == monkey(X,P,monkey(Y,P,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and why does the highlighted law h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2879640"/>
            <a:ext cx="9539280" cy="360360"/>
          </a:xfrm>
          <a:prstGeom prst="rect">
            <a:avLst/>
          </a:prstGeom>
          <a:solidFill>
            <a:srgbClr val="99ccff">
              <a:alpha val="2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3280" y="345960"/>
            <a:ext cx="907092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8840" y="0"/>
            <a:ext cx="59612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that match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c matches the string “ab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*c matches “abbbbbbb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(b|c)* matches “abccccbb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+ matches “abb” but not “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? matches only “a” or “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gular express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un(string, string) →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17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 unstructur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79640" y="2519280"/>
            <a:ext cx="1800000" cy="1079640"/>
          </a:xfrm>
          <a:prstGeom prst="wedgeRoundRectCallout">
            <a:avLst>
              <a:gd name="adj1" fmla="val -5833"/>
              <a:gd name="adj2" fmla="val -8012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ng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2519280"/>
            <a:ext cx="1800360" cy="1079640"/>
          </a:xfrm>
          <a:prstGeom prst="wedgeRoundRectCallout">
            <a:avLst>
              <a:gd name="adj1" fmla="val -43564"/>
              <a:gd name="adj2" fmla="val -8331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simple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64000" y="2332440"/>
            <a:ext cx="4752720" cy="117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list() ++ list() → lis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int()|list()] → list(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 → lis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8512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s – append, cons and n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5675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can we test these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propert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gular expression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un(string, </a:t>
            </a:r>
            <a:r>
              <a:rPr b="1" lang="en-GB" sz="3200" spc="-1" strike="noStrike">
                <a:solidFill>
                  <a:srgbClr val="000000"/>
                </a:solidFill>
                <a:latin typeface="DejaVu Sans Mono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) →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star(regex) → reg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char(char) → reg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any_char() → reg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concat(regex, regex) → reg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choice(regex, regex) → reg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concat(char($a), star(char($b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0720" y="2340000"/>
            <a:ext cx="1800360" cy="1079640"/>
          </a:xfrm>
          <a:prstGeom prst="wedgeRoundRectCallout">
            <a:avLst>
              <a:gd name="adj1" fmla="val -126462"/>
              <a:gd name="adj2" fmla="val -6506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regex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 a str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00360" y="3600360"/>
            <a:ext cx="3958920" cy="1260720"/>
          </a:xfrm>
          <a:prstGeom prst="wedgeRoundRectCallout">
            <a:avLst>
              <a:gd name="adj1" fmla="val -43995"/>
              <a:gd name="adj2" fmla="val -107583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star(R) -&g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  “(“ ++ R ++ “)*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e two regular expressions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st way to find out: test on random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observe(R, regex)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 Mono"/>
              </a:rPr>
              <a:t>re:run(..., 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e two regular expressions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st way to find out: test on random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observe(R, regex, S) →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  re:run(S, 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context() →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  list(char(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K, let's try it ou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283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8425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ould be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2320" y="1785960"/>
            <a:ext cx="8776080" cy="260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2&gt; laws:laws(re_si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Classifying terms of depth 0... 2 terms...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2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Classifying terms of depth 1... 10 terms...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10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Classifying terms of depth 2... 78 terms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&lt;&lt;computer goes into a sul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45960"/>
            <a:ext cx="907092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6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_sig.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iller regular ex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now: remove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*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+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32480" y="1843920"/>
            <a:ext cx="6215760" cy="812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2&gt; re:run("abc", "((a|())+|a)+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&lt;&lt;computer goes into a sul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e two regular expressions equ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put data is too rand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e:run(“cpjsd¬!!££$”, 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985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on strings of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and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360" y="3780000"/>
            <a:ext cx="3240000" cy="1439640"/>
          </a:xfrm>
          <a:prstGeom prst="wedgeRoundRectCallout">
            <a:avLst>
              <a:gd name="adj1" fmla="val -36750"/>
              <a:gd name="adj2" fmla="val -10445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will probabl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no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story so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ll, it all seems to work OK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what about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don't want to fix P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principle we could avoid dodgy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's switch to a non-breaky regular expression library instead 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03280" y="345960"/>
            <a:ext cx="907092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6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fa_re_sig.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's a bu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431640" indent="0" algn="ct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*;S* = (R|S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8000"/>
              </a:lnSpc>
              <a:spcBef>
                <a:spcPts val="14176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|S* = (R|S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2700360"/>
            <a:ext cx="2340000" cy="1079640"/>
          </a:xfrm>
          <a:prstGeom prst="wedgeRoundRectCallout">
            <a:avLst>
              <a:gd name="adj1" fmla="val 34337"/>
              <a:gd name="adj2" fmla="val -9518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29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RRRRS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59280" y="2700360"/>
            <a:ext cx="2340000" cy="1079640"/>
          </a:xfrm>
          <a:prstGeom prst="wedgeRoundRectCallout">
            <a:avLst>
              <a:gd name="adj1" fmla="val -34157"/>
              <a:gd name="adj2" fmla="val -9518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29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SRR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59280" y="5040360"/>
            <a:ext cx="2340000" cy="1079280"/>
          </a:xfrm>
          <a:prstGeom prst="wedgeRoundRectCallout">
            <a:avLst>
              <a:gd name="adj1" fmla="val -34157"/>
              <a:gd name="adj2" fmla="val -9518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29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SRR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5040360"/>
            <a:ext cx="2340000" cy="1439640"/>
          </a:xfrm>
          <a:prstGeom prst="wedgeRoundRectCallout">
            <a:avLst>
              <a:gd name="adj1" fmla="val 34324"/>
              <a:gd name="adj2" fmla="val -8388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29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SSS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0360" y="1424160"/>
            <a:ext cx="9324720" cy="2962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 anchorCtr="1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prop_appendnil()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?FORALL(Xs, list(int()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 ++ [] == X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1&gt; eqc:quickcheck(prop:prop_appendnil(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OK, passed 100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perties in all their wo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176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21263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how do we know what properties to w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uickSpec to the resc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could we use this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ing a library (fixed-point arithme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ing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ing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xamples (Erlang and Hask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se studies: binary heaps and fixed-point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verything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QuickSpec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te all expressions up to a given dep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Bef>
                <a:spcPts val="283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assume that two expressions are equal until we find a counter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2519280"/>
            <a:ext cx="143964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2519280"/>
            <a:ext cx="143964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++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2519280"/>
            <a:ext cx="143964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++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++X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519280"/>
            <a:ext cx="143964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++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some random values for 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Bef>
                <a:spcPts val="283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Xs = [], Ys = [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QuickSpec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140360" y="2519280"/>
            <a:ext cx="1439640" cy="3060720"/>
            <a:chOff x="4140360" y="2519280"/>
            <a:chExt cx="1439640" cy="3060720"/>
          </a:xfrm>
        </p:grpSpPr>
        <p:sp>
          <p:nvSpPr>
            <p:cNvPr id="160" name=""/>
            <p:cNvSpPr/>
            <p:nvPr/>
          </p:nvSpPr>
          <p:spPr>
            <a:xfrm>
              <a:off x="4140360" y="2519280"/>
              <a:ext cx="1439640" cy="306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DejaVu Sans Mono"/>
                </a:rPr>
                <a:t>[]++[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DejaVu Sans Mono"/>
                </a:rPr>
                <a:t>[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40360" y="2519280"/>
              <a:ext cx="1439640" cy="306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DejaVu Sans Mono"/>
                </a:rPr>
                <a:t>X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DejaVu Sans Mono"/>
                </a:rPr>
                <a:t>Xs++[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DejaVu Sans Mono"/>
                </a:rPr>
                <a:t>[]++X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40360" y="2519280"/>
            <a:ext cx="1439640" cy="3060720"/>
            <a:chOff x="4140360" y="2519280"/>
            <a:chExt cx="1439640" cy="3060720"/>
          </a:xfrm>
        </p:grpSpPr>
        <p:sp>
          <p:nvSpPr>
            <p:cNvPr id="163" name=""/>
            <p:cNvSpPr/>
            <p:nvPr/>
          </p:nvSpPr>
          <p:spPr>
            <a:xfrm>
              <a:off x="4140360" y="2519280"/>
              <a:ext cx="1439640" cy="306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DejaVu Sans Mono"/>
                </a:rPr>
                <a:t>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0360" y="2519280"/>
              <a:ext cx="1439640" cy="306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1120" bIns="45000" anchor="ctr">
              <a:noAutofit/>
            </a:bodyPr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DejaVu Sans Mono"/>
                </a:rPr>
                <a:t>Xs++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8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476190476190476 L -0.196428571428571 -0.00476190476190476 E">
                                      <p:cBhvr>
                                        <p:cTn id="68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476190476190476 L 0.214285714285714 -0.00476190476190476 E">
                                      <p:cBhvr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some random values for 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Bef>
                <a:spcPts val="283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Xs = [1], Ys = [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QuickSpec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60720" y="2484360"/>
            <a:ext cx="143964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++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++X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720" y="2484360"/>
            <a:ext cx="143964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++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2484360"/>
            <a:ext cx="144000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++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2484360"/>
            <a:ext cx="144000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29638573767144 -0.00714285714285714 L -0.0979827387534346 -0.00714285714285714 E">
                                      <p:cBhvr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3265746212227 -0.00714285714285714 L 0.11699176632033 -0.00714285714285714 E">
                                      <p:cBhvr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8371807975354 -0.00714285714285714 L 0.0979247710562445 -0.00714285714285714 E">
                                      <p:cBhvr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714285714285714 L -0.125 -0.00714285714285714 E">
                                      <p:cBhvr>
                                        <p:cTn id="82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some eq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8000"/>
              </a:lnSpc>
              <a:spcBef>
                <a:spcPts val="283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QuickSpec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0200" y="2571840"/>
            <a:ext cx="144000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++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++X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519280"/>
            <a:ext cx="144000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++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70840" y="2536920"/>
            <a:ext cx="143964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++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00720" y="2519280"/>
            <a:ext cx="1439640" cy="30607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6300720"/>
            <a:ext cx="3780000" cy="1079640"/>
          </a:xfrm>
          <a:prstGeom prst="wedgeRoundRectCallout">
            <a:avLst>
              <a:gd name="adj1" fmla="val -30185"/>
              <a:gd name="adj2" fmla="val -14839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29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[]++[] == [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5759280"/>
            <a:ext cx="3600360" cy="1619280"/>
          </a:xfrm>
          <a:prstGeom prst="wedgeRoundRectCallout">
            <a:avLst>
              <a:gd name="adj1" fmla="val -92745"/>
              <a:gd name="adj2" fmla="val -10451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292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Xs++[] == X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[]++Xs == X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QuickSpec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ter out the redundant equations (then print the rest)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[]++[] == []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Xs++[] == X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[]++Xs == X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the hard b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functions need to be pure and termin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ight need to include some auxiliar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obs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quite delicat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observe(Q, queue) →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   queue:len(Q)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in_r(X,Q) “==” in_r(Y,Q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head(in_r(X,Q)) /= head(in_r(Y,Q)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be able to spot this auto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's to come next?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ing imperative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itional equations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I /= J ==&gt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set(I, X, set(J, Y, A)) ==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DejaVu Sans Mono"/>
              </a:rPr>
              <a:t>set(J, Y, set(I, X, A)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demo: Haskell arrays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52480" y="345960"/>
            <a:ext cx="907092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6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sig.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could you use this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ulating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ing someone else's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ing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e functions on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QuickSpec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'm not telling you yet :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quations are tested on random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quations rel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imple enoug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xpressions built from functions an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2762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ness: all true equations about simple enough expressions ar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4960" y="4060800"/>
            <a:ext cx="5769360" cy="152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 ++ []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 ++ (Ys ++ Zs)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th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 Mono"/>
              </a:rPr>
              <a:t>Xs ++ ((Ys ++ Zs) ++ Zs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th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0720" y="4140360"/>
            <a:ext cx="1800000" cy="1260360"/>
          </a:xfrm>
          <a:prstGeom prst="wedgeRoundRectCallout">
            <a:avLst>
              <a:gd name="adj1" fmla="val -102606"/>
              <a:gd name="adj2" fmla="val 4993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queue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161928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161928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161928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28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28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28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28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0" y="1738440"/>
            <a:ext cx="993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95560" y="2997360"/>
            <a:ext cx="2224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(4, Q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8240" y="4257720"/>
            <a:ext cx="4181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{head(Q), tail(Q)}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40360" y="414036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9640" y="414036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0360" y="4140360"/>
            <a:ext cx="72108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00720" y="4140360"/>
            <a:ext cx="3841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59280" y="4140360"/>
            <a:ext cx="349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15160" y="4087800"/>
            <a:ext cx="3841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queue API, in re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161928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161928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161928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28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28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28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287964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0" y="1738440"/>
            <a:ext cx="993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38440" y="2997360"/>
            <a:ext cx="2630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_r(4, Q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240" y="4257720"/>
            <a:ext cx="4181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{daeh(Q), liat(Q)}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40360" y="414036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9640" y="4140360"/>
            <a:ext cx="72072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0360" y="4140360"/>
            <a:ext cx="72108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4140360"/>
            <a:ext cx="3841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59280" y="4140360"/>
            <a:ext cx="3495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15160" y="4087800"/>
            <a:ext cx="3841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7480" bIns="45000" anchor="ctr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60360" y="5580000"/>
            <a:ext cx="1619280" cy="720720"/>
          </a:xfrm>
          <a:prstGeom prst="wedgeRoundRectCallout">
            <a:avLst>
              <a:gd name="adj1" fmla="val 45310"/>
              <a:gd name="adj2" fmla="val -14275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lait(Q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3280" y="345960"/>
            <a:ext cx="907092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6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euesig.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0:12:20Z</dcterms:created>
  <dc:creator/>
  <dc:description/>
  <dc:language>en-US</dc:language>
  <cp:lastModifiedBy/>
  <dcterms:modified xsi:type="dcterms:W3CDTF">2009-11-13T11:30:44Z</dcterms:modified>
  <cp:revision>332</cp:revision>
  <dc:subject/>
  <dc:title/>
</cp:coreProperties>
</file>